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B19-3C8F-4D5B-A92C-53486D8A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E05-7E8A-45B2-A24D-F3C3821A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AD3-BEF2-457D-8730-0BBD759E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CC7-66F5-4749-ADA0-6CBC7861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542-9F6E-41E6-8971-B0572DAB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B12-CDDE-40F9-8AD8-84BCB50A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D08-9140-4FFD-90FC-5141F69F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190-62B2-49AA-B422-ADDC69C3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F93-0551-4B1D-8529-7EA0905F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25C-4987-41A0-AF61-25177CCD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D9B-B1F5-4E45-B22C-D3B8C76A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F9B-ACF6-4297-A5B7-A281072E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35A4-37F1-4422-81FA-19E23F006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ken Alfredo 30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job!  Great platform.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-written…Nice work here.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te impressive.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ST!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…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ork!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3:27:36Z</dcterms:created>
  <dc:creator>nbdoe</dc:creator>
  <dc:description/>
  <dc:language>en-US</dc:language>
  <cp:lastModifiedBy>nbdoe</cp:lastModifiedBy>
  <dcterms:modified xsi:type="dcterms:W3CDTF">2007-05-11T13:27:42Z</dcterms:modified>
  <cp:revision>1</cp:revision>
  <dc:subject/>
  <dc:title>Election 2007</dc:title>
</cp:coreProperties>
</file>